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50C-48B3-428C-8E4B-6E5ED256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86D-0124-4694-8248-E7F302B6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2BF-31E4-4634-B398-C0ADD4A2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A71-BD84-4EF3-9446-F6F74D33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2E8-4511-40E0-951E-C3C5C5B8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7E3-2803-4FAD-B6C3-A02A5FBF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8D4-83F1-4155-B116-8F797D28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736-927C-4A3A-9A92-6F0E791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054-1B6A-44A8-9422-87085F9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1B1-9AED-4A18-B9E4-83B094C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0F4-EB94-401A-B0E8-41A1B28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F8B-9B3E-4EBB-9716-930EF6C8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101E-7642-4C17-8F32-68852909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24000" y="98100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解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51080" y="110808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78160" y="123516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136224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浪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960" y="148896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竹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759040" y="161604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竿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86120" y="174312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2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楷体"/>
                <a:ea typeface="华文楷体"/>
              </a:rPr>
              <a:t>xiá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638520" y="2351160"/>
            <a:ext cx="196524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斜</a:t>
            </a:r>
            <a:endParaRPr b="0" lang="en-US" sz="6000" spc="-1" strike="noStrike">
              <a:ln w="0">
                <a:noFill/>
              </a:ln>
              <a:solidFill>
                <a:srgbClr val="ff0066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908000" y="692280"/>
            <a:ext cx="547380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落三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二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a.hiphotos.baidu.com/baike/c%3DbaikeA1%2C10%2C95/sign=332f8adf36d12f2eda05f93126a9b023/10dfa9ec8a1363272a13293b918fa0ec09fa513d2697e7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注释译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秋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农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月，指晚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：倾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390"/>
          <p:cNvSpPr/>
          <p:nvPr/>
        </p:nvSpPr>
        <p:spPr>
          <a:xfrm>
            <a:off x="826920" y="4724280"/>
            <a:ext cx="54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1670867_161133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87280" y="4365720"/>
            <a:ext cx="77058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使树叶在晚秋时节掉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54b4d039c74cd0a255e72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14240" y="1285920"/>
            <a:ext cx="640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在早春二月时使百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43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83161065196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28800" y="1143000"/>
            <a:ext cx="66722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吹过江面时会掀起千尺巨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picapi.ooopic.com/01/23/73/07b1OOOPIC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0920" y="549360"/>
            <a:ext cx="8464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方正隶书简体"/>
              </a:rPr>
              <a:t>吹入竹林时能使成千上万的竹子倾斜倒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051008korea1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571760" y="0"/>
            <a:ext cx="5624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98320" y="2428920"/>
            <a:ext cx="47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解落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秋叶，能开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96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江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千尺浪，入竹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竿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7120" y="4857840"/>
            <a:ext cx="85726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诗让人看到了风的力量，能使晚秋的树叶脱落，能催开早春二月的鲜花。它经过江河时能掀起千尺巨浪，刮进竹林时可把万棵翠竹吹得歪歪斜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de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qbaobei.com/Uploads/Editor/2015-12-24/567ba9d91c8b4.jpg"/>
          <p:cNvPicPr/>
          <p:nvPr/>
        </p:nvPicPr>
        <p:blipFill>
          <a:blip r:embed="rId1"/>
          <a:stretch/>
        </p:blipFill>
        <p:spPr>
          <a:xfrm>
            <a:off x="34920" y="1909800"/>
            <a:ext cx="9036000" cy="49417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2700360" y="343080"/>
            <a:ext cx="6264360" cy="64260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年时，和爸爸妈妈一起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节童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53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3132000" y="971640"/>
            <a:ext cx="356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  老师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厂  工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医院  医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队  军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108000" y="298440"/>
            <a:ext cx="1401840" cy="140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509840" y="836640"/>
            <a:ext cx="36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味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4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厂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1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2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工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7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3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4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院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9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1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6200" y="203472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ōng   chǎng    yī</a:t>
            </a: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s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56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75572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741400" y="692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073040" y="2001960"/>
            <a:ext cx="3415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树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加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办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旁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两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 也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四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学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468360" y="1125360"/>
            <a:ext cx="92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新年到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，为你的家人和朋友写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福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edia.teeqee.com/game/img/461/b9468b3413605d1b1a8b6e306987dae5.jpg"/>
          <p:cNvPicPr/>
          <p:nvPr/>
        </p:nvPicPr>
        <p:blipFill>
          <a:blip r:embed="rId2"/>
          <a:stretch/>
        </p:blipFill>
        <p:spPr>
          <a:xfrm>
            <a:off x="-20520" y="0"/>
            <a:ext cx="933768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矩形 921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78f57897a5c62b3a5c27233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2120" y="114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诵读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24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14680" y="357120"/>
            <a:ext cx="547344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风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》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能开二月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李峤，唐朝著名的宫廷诗人，与杜审言、苏味道、崔融并称“文章四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jiě   luò  nénɡ  lànɡ  zhú   ɡān   xi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   落    能     浪    竹     竿    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56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